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5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sldNum" idx="6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4A3F4-2492-41C4-82C5-3C03AA371CA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幻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F275B-512A-4964-95DA-999037370D1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幻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C9892-B2F4-4C15-B4E4-A2798ABB5E2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幻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DDEBD-CAC0-455D-8B78-84504C93678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幻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08EBB-1043-448D-8F7B-37208846804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AD2E2-D9F0-4E16-826B-71DAA4AC031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F7170-138C-4CD9-947F-CF230784679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29ED2-A70E-43CD-AF28-8CD8823A3E8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DBC26-F7CF-4AB4-8423-3561A61EA9F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A15D3-5211-47CF-9CD1-2F925334B06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幻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0AA37-785B-478F-AD03-4E6788CE05D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02BF7-247A-44EF-B704-782DA778856F}" type="slidenum">
              <a:rPr b="0" lang="ko-KR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幻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8A396-9263-4B7C-8C68-5E4BE05E542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F3577-447C-411B-9995-2ED68D1DECA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539640" y="720720"/>
            <a:ext cx="5761080" cy="43196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灯片编号占位符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C531D-5BF6-4B5C-AD9D-BD25647A85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539640" y="720720"/>
            <a:ext cx="5761080" cy="43196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灯片编号占位符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3C9E9-3214-4E8E-A7D5-AC1C409803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DAA8-1FF0-49F8-A332-3941E2391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06C6-7A06-4453-8ABC-B63767194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112E-EA36-4639-AD0F-722820F26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3B7B-8E45-4F1F-8855-CAC5FCDB5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8CA7-9D2C-4C65-BAE3-B40C4A249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3F7B-694D-4CE3-9565-9B2528FCF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AB7F-2FCB-476C-B6DB-089A287A0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BCB3-10B2-44FC-B126-3BBEE6C5D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C67D-E423-4FEB-BBC1-5F48B09D2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4B2F-4E91-409B-8821-D5BAEFE9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6A17-CE8F-4225-A867-6906A4F3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D0F3-EC24-43E0-8061-7EB530542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B1039-6718-4720-8DE3-88E805CA246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图片 1" descr=""/>
          <p:cNvPicPr/>
          <p:nvPr/>
        </p:nvPicPr>
        <p:blipFill>
          <a:blip r:embed="rId1"/>
          <a:stretch/>
        </p:blipFill>
        <p:spPr>
          <a:xfrm>
            <a:off x="262080" y="0"/>
            <a:ext cx="86198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图片 1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6390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图片 1" descr=""/>
          <p:cNvPicPr/>
          <p:nvPr/>
        </p:nvPicPr>
        <p:blipFill>
          <a:blip r:embed="rId1"/>
          <a:stretch/>
        </p:blipFill>
        <p:spPr>
          <a:xfrm>
            <a:off x="0" y="2421000"/>
            <a:ext cx="9144000" cy="13428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图片 1" descr=""/>
          <p:cNvPicPr/>
          <p:nvPr/>
        </p:nvPicPr>
        <p:blipFill>
          <a:blip r:embed="rId1"/>
          <a:stretch/>
        </p:blipFill>
        <p:spPr>
          <a:xfrm>
            <a:off x="0" y="2421000"/>
            <a:ext cx="9144000" cy="13428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图片 2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8210520" cy="456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图片 3" descr=""/>
          <p:cNvPicPr/>
          <p:nvPr/>
        </p:nvPicPr>
        <p:blipFill>
          <a:blip r:embed="rId1"/>
          <a:stretch/>
        </p:blipFill>
        <p:spPr>
          <a:xfrm>
            <a:off x="355680" y="506520"/>
            <a:ext cx="8432640" cy="62355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图片 1" descr=""/>
          <p:cNvPicPr/>
          <p:nvPr/>
        </p:nvPicPr>
        <p:blipFill>
          <a:blip r:embed="rId1"/>
          <a:stretch/>
        </p:blipFill>
        <p:spPr>
          <a:xfrm>
            <a:off x="262080" y="0"/>
            <a:ext cx="86198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1" descr=""/>
          <p:cNvPicPr/>
          <p:nvPr/>
        </p:nvPicPr>
        <p:blipFill>
          <a:blip r:embed="rId1"/>
          <a:stretch/>
        </p:blipFill>
        <p:spPr>
          <a:xfrm>
            <a:off x="23760" y="1593720"/>
            <a:ext cx="9096480" cy="36705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图片 2" descr=""/>
          <p:cNvPicPr/>
          <p:nvPr/>
        </p:nvPicPr>
        <p:blipFill>
          <a:blip r:embed="rId1"/>
          <a:stretch/>
        </p:blipFill>
        <p:spPr>
          <a:xfrm>
            <a:off x="279360" y="1844640"/>
            <a:ext cx="8585280" cy="233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图片 2" descr=""/>
          <p:cNvPicPr/>
          <p:nvPr/>
        </p:nvPicPr>
        <p:blipFill>
          <a:blip r:embed="rId1"/>
          <a:stretch/>
        </p:blipFill>
        <p:spPr>
          <a:xfrm>
            <a:off x="407880" y="1073160"/>
            <a:ext cx="8328240" cy="471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图片 3" descr=""/>
          <p:cNvPicPr/>
          <p:nvPr/>
        </p:nvPicPr>
        <p:blipFill>
          <a:blip r:embed="rId1"/>
          <a:stretch/>
        </p:blipFill>
        <p:spPr>
          <a:xfrm>
            <a:off x="0" y="774720"/>
            <a:ext cx="9144000" cy="530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图片 1" descr=""/>
          <p:cNvPicPr/>
          <p:nvPr/>
        </p:nvPicPr>
        <p:blipFill>
          <a:blip r:embed="rId1"/>
          <a:stretch/>
        </p:blipFill>
        <p:spPr>
          <a:xfrm>
            <a:off x="0" y="2492280"/>
            <a:ext cx="9144000" cy="13431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图片 2" descr=""/>
          <p:cNvPicPr/>
          <p:nvPr/>
        </p:nvPicPr>
        <p:blipFill>
          <a:blip r:embed="rId1"/>
          <a:stretch/>
        </p:blipFill>
        <p:spPr>
          <a:xfrm>
            <a:off x="1116000" y="692280"/>
            <a:ext cx="6834240" cy="4425840"/>
          </a:xfrm>
          <a:prstGeom prst="rect">
            <a:avLst/>
          </a:prstGeom>
          <a:ln w="0">
            <a:noFill/>
          </a:ln>
        </p:spPr>
      </p:pic>
      <p:pic>
        <p:nvPicPr>
          <p:cNvPr id="131" name="图片 2" descr=""/>
          <p:cNvPicPr/>
          <p:nvPr/>
        </p:nvPicPr>
        <p:blipFill>
          <a:blip r:embed="rId2"/>
          <a:stretch/>
        </p:blipFill>
        <p:spPr>
          <a:xfrm>
            <a:off x="0" y="5229360"/>
            <a:ext cx="9144000" cy="134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8537040" y="6527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930240" y="228600"/>
            <a:ext cx="389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同理心倾听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pathic List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27720" y="6600960"/>
            <a:ext cx="4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ab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412560" y="6524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861840" y="6607080"/>
            <a:ext cx="295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eek First to Understand, Then to Be Understoo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9"/>
          <p:cNvSpPr/>
          <p:nvPr/>
        </p:nvSpPr>
        <p:spPr>
          <a:xfrm>
            <a:off x="723960" y="6629400"/>
            <a:ext cx="0" cy="19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图片 1" descr=""/>
          <p:cNvPicPr/>
          <p:nvPr/>
        </p:nvPicPr>
        <p:blipFill>
          <a:blip r:embed="rId1"/>
          <a:stretch/>
        </p:blipFill>
        <p:spPr>
          <a:xfrm>
            <a:off x="407880" y="1069920"/>
            <a:ext cx="8328240" cy="538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8537040" y="6527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930240" y="228600"/>
            <a:ext cx="389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同理心倾听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pathic List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27720" y="6600960"/>
            <a:ext cx="4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ab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412560" y="6524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861840" y="6607080"/>
            <a:ext cx="295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eek First to Understand, Then to Be Understoo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9"/>
          <p:cNvSpPr/>
          <p:nvPr/>
        </p:nvSpPr>
        <p:spPr>
          <a:xfrm>
            <a:off x="723960" y="6629400"/>
            <a:ext cx="0" cy="19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图片 2" descr=""/>
          <p:cNvPicPr/>
          <p:nvPr/>
        </p:nvPicPr>
        <p:blipFill>
          <a:blip r:embed="rId1"/>
          <a:stretch/>
        </p:blipFill>
        <p:spPr>
          <a:xfrm>
            <a:off x="36360" y="1236600"/>
            <a:ext cx="9071280" cy="4384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22T12:06:56Z</dcterms:created>
  <dc:creator>shentong6903@163.com</dc:creator>
  <dc:description/>
  <dc:language>en-US</dc:language>
  <cp:lastModifiedBy>Joanna</cp:lastModifiedBy>
  <cp:lastPrinted>2017-05-02T00:32:14Z</cp:lastPrinted>
  <dcterms:modified xsi:type="dcterms:W3CDTF">2019-05-16T01:46:35Z</dcterms:modified>
  <cp:revision>1199</cp:revision>
  <dc:subject/>
  <dc:title>幻灯片 1</dc:title>
</cp:coreProperties>
</file>